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932-3DA3-4659-9F25-A9F26B99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DE6-B33C-4CDF-BF80-75D1073C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E60-823F-4906-B11B-7601D62C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43F1-8B14-47D2-A65B-4027FE69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ECA-18D9-4D97-9969-15C3FBC7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493-127A-4D28-A3E6-E45AD8BD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A5F-D4DB-4F76-B820-D8DDB1E6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36F-476A-4DF8-A8CD-E7CCEF08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C62-35BA-4924-B8D0-F8FAA549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A5B-DC18-43C3-A3A7-DA296AF1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BFD-18CA-4C11-983D-6E363F62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E50-966F-4836-AA7F-D45F94A1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3E20-7AE6-43ED-B7BB-9A4AEBE97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403920"/>
            <a:ext cx="576108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COMPETENCIAS ESPECÍ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881640" y="2392920"/>
            <a:ext cx="3456000" cy="11178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17181" dir="2961631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2682000" y="2321640"/>
            <a:ext cx="3240000" cy="104436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-2108520" y="3267720"/>
            <a:ext cx="541008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  <a:ea typeface="Arial"/>
              </a:rPr>
              <a:t>COMPETENCIAS</a:t>
            </a:r>
            <a:r>
              <a:rPr b="1" lang="es-ES_tradnl" sz="2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  <a:ea typeface="Arial"/>
              </a:rPr>
              <a:t>TRANSVER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295280"/>
            <a:ext cx="7416720" cy="914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TRATAMIENTO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Y  COMPETENCI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362320"/>
            <a:ext cx="7417080" cy="792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SOCIAL Y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5279040" y="3252960"/>
            <a:ext cx="5211720" cy="1152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37587" dir="3378595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CULTURAL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AR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505320"/>
            <a:ext cx="7417080" cy="792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APRENDER A AP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3549600" y="3254040"/>
            <a:ext cx="5211720" cy="11509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37587" dir="3378595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E INTERA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CON EL MUNDO FÍ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7416720" cy="792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AUTONOMÍA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INICIATIVA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3336120" y="4836240"/>
            <a:ext cx="1931760" cy="104436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27008" dir="3183908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626920" y="863640"/>
            <a:ext cx="180036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427280" y="863640"/>
            <a:ext cx="7308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863640"/>
            <a:ext cx="345600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863640"/>
            <a:ext cx="151272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900000" y="1944720"/>
            <a:ext cx="43200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900000" y="2879280"/>
            <a:ext cx="43200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3240000"/>
            <a:ext cx="43200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3240000"/>
            <a:ext cx="43200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1607400" y="4762800"/>
            <a:ext cx="2004840" cy="11178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COMUN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LINGÜ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17:50Z</dcterms:created>
  <dc:creator>Paco Fdez Robles </dc:creator>
  <dc:description/>
  <dc:language>en-US</dc:language>
  <cp:lastModifiedBy>Paco Fdez Robles </cp:lastModifiedBy>
  <dcterms:modified xsi:type="dcterms:W3CDTF">2009-03-17T15:18:08Z</dcterms:modified>
  <cp:revision>1</cp:revision>
  <dc:subject/>
  <dc:title>Diapositiva 1</dc:title>
</cp:coreProperties>
</file>